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FDC-D4F8-4EDC-B928-6163D045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799-4E24-46F1-A40F-0C1112FD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734-AD8A-48BA-8E7A-08AC89B3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673-2071-4A14-9E38-68A78022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518-9946-4A27-B7B1-256CF579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D12B-182C-4029-AED8-08B887AA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719-3074-46B1-BA1A-AC6C0AC8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B92-A9B7-4587-9B0D-360AD17B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BB1-D22D-4535-96E6-A490043B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72D-3F22-49D3-95AF-2A2A2D3C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76D-C48C-4895-8798-10FED4BE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B4A-8DB9-41AF-9723-0068A460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29BF-E3FE-4FD8-9C0B-F80D3D8B5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4  Note Guide Solids, liquids and gases, oh m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371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tates of matter – described based on whether shapes and volumes are fixed o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1337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olids = definite shape and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6668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ngement of particles at atomic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olid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2438640" cy="1771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32004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les very closely p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Liquid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ite volume, but no definite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iquid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2590920" cy="138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1523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ke shape of container it i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20574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rrangement of particles mo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2004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packed, but somewhat lo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Gases – no definite shape or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as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2274840" cy="1965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81280" y="1219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kes shape of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6765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rrangement of particles not in regular pattern; very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2004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very lo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6576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Plasma –exists at extremely high temperatures (on stars, s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Bose-Einstein condensate –found at temps near –273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800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roups of atoms act as a single 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The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295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L moving objects have kinetic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1676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energy = energy of moti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0574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kinetic theory states that all particles of matter are in CONSTANT mo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819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 of the 3 main states of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276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olids = have definite shape and volume beca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les vibrate around fixed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038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trong attractions of the atoms within keep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4197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Liquids = take shape of container because particles flow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locations.  Volume remains constant becaus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ces of attraction keep particles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as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s of attraction in gases are small, but STI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600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collide with each other,but can’t get away tot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0:03:35Z</dcterms:created>
  <dc:creator>Farwell Area Schools</dc:creator>
  <dc:description/>
  <dc:language>en-US</dc:language>
  <cp:lastModifiedBy>Farwell Area Schools</cp:lastModifiedBy>
  <dcterms:modified xsi:type="dcterms:W3CDTF">2009-01-21T18:10:03Z</dcterms:modified>
  <cp:revision>5</cp:revision>
  <dc:subject/>
  <dc:title>3-4  Note Guide Solids, liquids and gases, oh my!</dc:title>
</cp:coreProperties>
</file>